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3.wmf" ContentType="image/x-wmf"/>
  <Override PartName="/ppt/media/image22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20.wmf" ContentType="image/x-wmf"/>
  <Override PartName="/ppt/media/image4.jpeg" ContentType="image/jpeg"/>
  <Override PartName="/ppt/media/image7.png" ContentType="image/png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7ED-6FAD-49B4-8BE5-F855F707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122-C5ED-4907-8E0D-0D107A98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46F3-BC4A-4ABA-BB58-4CB03345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978-E9D0-430D-A89A-C82177D2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31B3-3E79-440F-B6CB-B501657A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85E-DE8C-491F-8B24-A4F7AFF6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5AE-7432-4F73-9981-2F0CD39C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53A6-15E5-4513-AD27-628196D4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153B-208F-4B82-B7F7-C468E9E6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2547-55BF-4350-99C5-870E92FB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E6A3-8DB1-4674-AF85-BE029198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49C3-D4E1-47CB-BACE-BB27F5EC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BA6C-15C5-4EAC-B8DA-261875D09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62320" y="1905120"/>
            <a:ext cx="405108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Qué 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3263760"/>
            <a:ext cx="5860800" cy="15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 imperfecto?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791320" cy="3585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et the scene for another past a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51814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odos los niños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miraban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cuando el castillo se rompió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2286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ell what was happening at a certain 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5181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arlos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manejaba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a Chicago cuando empezó a llo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278400" cy="3267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276360" cy="3657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280" y="1522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describe a physical, mental or emotional state in the p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556272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a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quería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mucho a su mari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76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hora, vamos a practicar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9907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rmir - A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990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orm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19810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bajar - t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1981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rabajab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3434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r - nosotr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4343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áb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4876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rer - Pedr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48448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quer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62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der - U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762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od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5715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ilar - mis tí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5715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ailab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635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lver - y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2666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volv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3581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ír - nosotr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3581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oí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45720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día, mi hermana y yo _____________   en el m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808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avegáb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7524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entras yo __________ por teléfono, Carlos ______  una rev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16765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abla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2209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3526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¡Frankenstein ________ grande y verd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276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495288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 _________ que Ricky Martin ______ gua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8769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re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238880" y="228600"/>
          <a:ext cx="1508400" cy="98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228600"/>
                    <a:ext cx="15084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943600" y="1523880"/>
          <a:ext cx="104616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43600" y="1523880"/>
                    <a:ext cx="10461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543800" y="1523880"/>
          <a:ext cx="1066680" cy="111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3800" y="1523880"/>
                    <a:ext cx="106668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315200" y="2895480"/>
          <a:ext cx="993600" cy="1508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15200" y="2895480"/>
                    <a:ext cx="9936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10"/>
          <a:srcRect l="60161" t="0" r="14577" b="0"/>
          <a:stretch/>
        </p:blipFill>
        <p:spPr>
          <a:xfrm>
            <a:off x="7391520" y="4724280"/>
            <a:ext cx="939600" cy="1621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7621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niño____________ muy enoj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6858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a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3623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agosto, y __________ mucho calor en la play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286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2286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ac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267080"/>
            <a:ext cx="4647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 las t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la tar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4191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391520" y="2209680"/>
          <a:ext cx="157644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09680"/>
                    <a:ext cx="1576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15000" y="2057400"/>
          <a:ext cx="1298520" cy="128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2057400"/>
                    <a:ext cx="12985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172200" y="4200480"/>
          <a:ext cx="1355760" cy="1362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4200480"/>
                    <a:ext cx="135576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705720" y="2286000"/>
          <a:ext cx="444240" cy="1100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05720" y="2286000"/>
                    <a:ext cx="44424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7080120" y="380880"/>
          <a:ext cx="1378080" cy="1339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080120" y="380880"/>
                    <a:ext cx="13780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 éste es el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9320" y="1828800"/>
            <a:ext cx="6781680" cy="16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imperfecto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19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ácil…  ¿n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808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imperfecto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es otro tiempo para indicar el pasado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297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¿Cómo se form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62120" y="3048120"/>
          <a:ext cx="2539800" cy="273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8120"/>
                    <a:ext cx="2539800" cy="27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685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ecemos con el infinitivo.  Quitemos la termin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533520"/>
            <a:ext cx="7162920" cy="7617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1523880"/>
            <a:ext cx="1218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152388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150984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523880"/>
            <a:ext cx="137160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1523880"/>
            <a:ext cx="137160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1523880"/>
            <a:ext cx="137160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2895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ñadamos la terminación nueva para el imperfect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743200"/>
            <a:ext cx="7162920" cy="7621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962520"/>
            <a:ext cx="3429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hab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áb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hab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3962520"/>
            <a:ext cx="2895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3962520"/>
            <a:ext cx="2666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v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v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886200"/>
            <a:ext cx="327672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3886200"/>
            <a:ext cx="525780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533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¡Hay sola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9880" y="380880"/>
            <a:ext cx="64152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s</a:t>
            </a:r>
            <a:endParaRPr b="0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erbos irregulare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676520"/>
            <a:ext cx="28195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a   ér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as   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a    er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2297160"/>
            <a:ext cx="2971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ba     íb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bas   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ba       ib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3200400"/>
            <a:ext cx="3048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eía    veí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eías   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eía     veí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2209680"/>
            <a:ext cx="29718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9920" y="3048120"/>
            <a:ext cx="3047760" cy="350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1676520"/>
            <a:ext cx="2819160" cy="32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00200" y="1143000"/>
            <a:ext cx="4495680" cy="24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¿Cuánd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70692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omic Sans MS"/>
              </a:rPr>
              <a:t>se usa 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934320" y="1371600"/>
          <a:ext cx="1441440" cy="30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1371600"/>
                    <a:ext cx="144144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 txBox="1"/>
          <p:nvPr/>
        </p:nvSpPr>
        <p:spPr>
          <a:xfrm>
            <a:off x="3352680" y="3924360"/>
            <a:ext cx="2997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imperfecto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370692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2379600" cy="365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30492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describe in the p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53341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a novia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llevaba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un hermoso vestido blanc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181840" cy="3454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3520" y="76320"/>
            <a:ext cx="800100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ell what time it w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p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41008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Eran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las siete de la noch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2286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relate a continuous or repeated action in the p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0292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uando éramos jóvenes, siempre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comíamos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helado en el veran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87656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124080" y="1679400"/>
            <a:ext cx="2851200" cy="3578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" y="763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ell what used to happen in the p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525780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o siempre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practicaba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el violín después de la ce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01:01:08Z</dcterms:created>
  <dc:creator>LAHS</dc:creator>
  <dc:description/>
  <dc:language>en-US</dc:language>
  <cp:lastModifiedBy>Jeff</cp:lastModifiedBy>
  <dcterms:modified xsi:type="dcterms:W3CDTF">2005-07-24T02:55:21Z</dcterms:modified>
  <cp:revision>24</cp:revision>
  <dc:subject/>
  <dc:title>No Slide Title</dc:title>
</cp:coreProperties>
</file>